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F48-E338-425D-BB59-538F67E5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941-0DF4-4553-84DF-89569651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4AC-7251-44B6-97B3-324DE3CE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C6E-D9C8-46E0-8B33-263E99B6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B32-B9F4-43EF-B06B-B4EBC3E8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3486-9BBB-4B7B-A8D6-A4AEDFD7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46C4-5D24-42CE-BB1A-97B54AC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01DA-0C53-418F-9607-8D3B1D7E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68CF-7270-4461-A76E-D7C7E41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C42-5189-46D1-9C81-F82A5206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6A6-D53E-4B78-A373-69C0D7B1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F49-F15B-4191-9F37-36E2BF9F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750-2CE3-4C8B-8429-A04D0F03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EBB-7F3E-4C1C-99E4-CB03839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9D1-1A19-4E0E-B898-03126C5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97A-6FEA-4BC2-8255-2D1799EF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403-91D5-4032-91AF-6AEA74AF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C7F2-C606-4B3C-B475-5A9C1197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1C7D-6E48-43ED-8634-DE405028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687C-4E57-4761-B71D-A626539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1B58-9212-4E1C-A0DB-7E87913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1EB7-9E46-4E70-BF7F-21B8BB99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14E-1EE7-4BF8-9C10-E93D8B1A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47A7-2077-42E3-9F0C-8223895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C349-0A1D-422F-959D-E91C1F9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3C5D-63D3-413D-80DC-6C50957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D668-F65B-4046-A301-83C73040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DCF6-FFE5-4E2F-9693-08DCA14F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B51A-C999-4770-8FB9-01E0D8FF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980F-C3E6-43AF-8010-7ACB545A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DBE0-6612-409E-B292-71EA9CD8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537F-2A51-4336-A71D-5B6CB70A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4C851-E752-420A-B372-2435BFEE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63E-740F-4EE3-8E85-0D15E681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47DF-54A3-4D6F-9D4B-847320C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DF0C-A1E1-4E94-AC82-CD2EBEE5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B774-852F-4A82-AA54-64CA3ED0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47A6-23CA-4A66-9BFC-10D9347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DCD79-B4EE-4BD9-9573-92EBACF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A47D-36A9-46CF-8ECF-A80CC75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EEA8-CAAB-431E-AE5B-B087F38C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D7E9-0420-40DE-AEBE-AB4CC306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EA63-9B8C-4501-8FF7-D52DE166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1CB-E262-4210-A9F9-5802582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BB7-8511-4B17-80E8-F545481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D55-20C6-49F3-A127-6A950C2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9E3-8287-48CE-955C-A49AB21F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FC8-8996-46DF-AEEF-0F655B5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18D-EF19-4B0A-88F9-07E9DC0C4DE4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D22-337C-4BF9-8E1E-6ADB049DE406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2AB-CC86-4C83-AB9F-9F45668253FE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00b05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37ff9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0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00b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00b050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7ff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b05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AF9E-57EC-46BC-A930-820E3DF08C9F}" type="slidenum">
              <a:rPr b="0" lang="ru-RU" sz="900" spc="-1" strike="noStrike">
                <a:solidFill>
                  <a:srgbClr val="00b05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65160" y="498240"/>
            <a:ext cx="904896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rebuchet MS"/>
              </a:rPr>
              <a:t>ВСЕРОССИЙСКАЯ АКЦИЯ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26800" y="3706920"/>
            <a:ext cx="9048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Trebuchet MS"/>
              </a:rPr>
              <a:t>Что надо знать родителям об особенностях поведения детей на дороге с учетом их психофизиологических условий развити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230040" y="6240600"/>
            <a:ext cx="5756400" cy="617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1528920" y="1969920"/>
            <a:ext cx="82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rebuchet MS"/>
              </a:rPr>
              <a:t>«БЕЗОПАСНАЯ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80"/>
                </a:solidFill>
                <a:latin typeface="Trebuchet MS"/>
              </a:rPr>
              <a:t>ГРАМОТА ДЛЯ ДЕТЕЙ И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5040" y="29340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Дети не в состоянии на бегу</a:t>
            </a:r>
            <a:br>
              <a:rPr sz="3200"/>
            </a:b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 сразу же остановиться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889600" y="2182680"/>
            <a:ext cx="43466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этому на крик родителей или сигнал автомобиля они реагируют со значительным опоздание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inner.jpg"/>
          <p:cNvPicPr/>
          <p:nvPr/>
        </p:nvPicPr>
        <p:blipFill>
          <a:blip r:embed="rId2"/>
          <a:stretch/>
        </p:blipFill>
        <p:spPr>
          <a:xfrm>
            <a:off x="696960" y="2182680"/>
            <a:ext cx="49719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2000" y="193320"/>
            <a:ext cx="9742320" cy="6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Дети эмоциональны и импульсивны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133800" y="1009440"/>
            <a:ext cx="662472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х внимание концентрируется  не на предметах, представляющих опасность, а на тех, которые в данный момент интересуют его больше  всего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7e3c6a6e-f50e-4dd4-a86d-6d360162eb81.jpg"/>
          <p:cNvPicPr/>
          <p:nvPr/>
        </p:nvPicPr>
        <p:blipFill>
          <a:blip r:embed="rId2"/>
          <a:stretch/>
        </p:blipFill>
        <p:spPr>
          <a:xfrm>
            <a:off x="7137360" y="2055960"/>
            <a:ext cx="330516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7" descr="C:\Users\ЕЛЕНА\Desktop\картинки\ee563bu-9601.jpg"/>
          <p:cNvPicPr/>
          <p:nvPr/>
        </p:nvPicPr>
        <p:blipFill>
          <a:blip r:embed="rId3"/>
          <a:stretch/>
        </p:blipFill>
        <p:spPr>
          <a:xfrm>
            <a:off x="318960" y="3914640"/>
            <a:ext cx="3502080" cy="212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C:\Users\ЕЛЕНА\Desktop\картинки\17.jpg"/>
          <p:cNvPicPr/>
          <p:nvPr/>
        </p:nvPicPr>
        <p:blipFill>
          <a:blip r:embed="rId4"/>
          <a:stretch/>
        </p:blipFill>
        <p:spPr>
          <a:xfrm>
            <a:off x="461880" y="1028880"/>
            <a:ext cx="2381400" cy="25905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3962520" y="4286160"/>
            <a:ext cx="609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огнать приятеля, уже перешедшего на другую сторону дороги, или подобрать укатившийся мячик для ребенка гораздо важнее, чем надвигающееся транспортное сре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3127320" y="2116080"/>
            <a:ext cx="40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метив предмет или человека, который привлекает его внимание, ребенок может устремиться к ним, забыв обо всем на св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7800"/>
            <a:ext cx="9443880" cy="20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Надежная ориентация «налево» и «направо» приобретается не ранее чем в 7-8-летнем возрасте, а во многих случаях и позже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68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original.jpeg"/>
          <p:cNvPicPr/>
          <p:nvPr/>
        </p:nvPicPr>
        <p:blipFill>
          <a:blip r:embed="rId1"/>
          <a:stretch/>
        </p:blipFill>
        <p:spPr>
          <a:xfrm>
            <a:off x="2465280" y="2114640"/>
            <a:ext cx="5811840" cy="380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9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SC_5162.jpg"/>
          <p:cNvPicPr/>
          <p:nvPr/>
        </p:nvPicPr>
        <p:blipFill>
          <a:blip r:embed="rId1"/>
          <a:stretch/>
        </p:blipFill>
        <p:spPr>
          <a:xfrm>
            <a:off x="4471920" y="1782720"/>
            <a:ext cx="2924280" cy="194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1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AllZFlGPfU.jpg"/>
          <p:cNvPicPr/>
          <p:nvPr/>
        </p:nvPicPr>
        <p:blipFill>
          <a:blip r:embed="rId3"/>
          <a:stretch/>
        </p:blipFill>
        <p:spPr>
          <a:xfrm>
            <a:off x="419040" y="1687680"/>
            <a:ext cx="29815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3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1621_html_24002e8a.jpg"/>
          <p:cNvPicPr/>
          <p:nvPr/>
        </p:nvPicPr>
        <p:blipFill>
          <a:blip r:embed="rId4"/>
          <a:stretch/>
        </p:blipFill>
        <p:spPr>
          <a:xfrm>
            <a:off x="7354800" y="4024440"/>
            <a:ext cx="2884680" cy="191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5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dai_20_08_12_001.jpg"/>
          <p:cNvPicPr/>
          <p:nvPr/>
        </p:nvPicPr>
        <p:blipFill>
          <a:blip r:embed="rId5"/>
          <a:stretch/>
        </p:blipFill>
        <p:spPr>
          <a:xfrm>
            <a:off x="2975040" y="3957480"/>
            <a:ext cx="310824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Прямоугольник 9"/>
          <p:cNvSpPr/>
          <p:nvPr/>
        </p:nvSpPr>
        <p:spPr>
          <a:xfrm>
            <a:off x="0" y="220680"/>
            <a:ext cx="94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33"/>
                </a:solidFill>
                <a:latin typeface="Trebuchet MS"/>
              </a:rPr>
              <a:t>Родители, помните последовательность и терпеливость в обучении  – залог безопасности ваших детей!</a:t>
            </a:r>
            <a:r>
              <a:rPr b="0" i="1" lang="ru-RU" sz="2800" spc="-1" strike="noStrike">
                <a:solidFill>
                  <a:srgbClr val="339933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pieton_parenttenantlamainenfant.jpg"/>
          <p:cNvPicPr/>
          <p:nvPr/>
        </p:nvPicPr>
        <p:blipFill>
          <a:blip r:embed="rId1"/>
          <a:stretch/>
        </p:blipFill>
        <p:spPr>
          <a:xfrm>
            <a:off x="395280" y="1846440"/>
            <a:ext cx="3521160" cy="234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7" name="Picture 5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archive_Fotolia_56946235_Subscription_XXL-1024x697.jpg"/>
          <p:cNvPicPr/>
          <p:nvPr/>
        </p:nvPicPr>
        <p:blipFill>
          <a:blip r:embed="rId2"/>
          <a:stretch/>
        </p:blipFill>
        <p:spPr>
          <a:xfrm>
            <a:off x="7674120" y="3025800"/>
            <a:ext cx="3511440" cy="23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3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9"/>
          <p:cNvSpPr/>
          <p:nvPr/>
        </p:nvSpPr>
        <p:spPr>
          <a:xfrm>
            <a:off x="254160" y="403200"/>
            <a:ext cx="93312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«Дети — это не взрослые в миниатюре. Их реакция на опасность очень отличается от наше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ru-RU" sz="1800" spc="-1" strike="noStrike">
                <a:solidFill>
                  <a:srgbClr val="7f7f7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юваль, франц. психолог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04.jpg"/>
          <p:cNvPicPr/>
          <p:nvPr/>
        </p:nvPicPr>
        <p:blipFill>
          <a:blip r:embed="rId4"/>
          <a:stretch/>
        </p:blipFill>
        <p:spPr>
          <a:xfrm>
            <a:off x="4370400" y="2246400"/>
            <a:ext cx="2768760" cy="238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299520"/>
            <a:ext cx="97902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Trebuchet MS"/>
              </a:rPr>
              <a:t>Психофизиологические особенности детей, определяющие их  поведение на дороге. </a:t>
            </a:r>
            <a:br>
              <a:rPr sz="3200"/>
            </a:b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44680" y="2179800"/>
            <a:ext cx="53593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Взрослые, подходя к проезжей части, уже издалека  наблюдают и оценивают создавшуюся ситуацию. Дети же начинают наблюдение, только подойдя  к краю проезжей части или уже находясь на ней. В результате – мозг ребенка  не успевает переварить информацию и дать правильную команду к действ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kanikuly.jpg"/>
          <p:cNvPicPr/>
          <p:nvPr/>
        </p:nvPicPr>
        <p:blipFill>
          <a:blip r:embed="rId2"/>
          <a:stretch/>
        </p:blipFill>
        <p:spPr>
          <a:xfrm>
            <a:off x="504720" y="2360520"/>
            <a:ext cx="4395960" cy="32990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441360" y="1623960"/>
            <a:ext cx="96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rebuchet MS"/>
              </a:rPr>
              <a:t>Дети иначе, чем взрослые переходят дор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Users\ЕЛЕНА\Desktop\Depositphotos_30858173_s.jpg"/>
          <p:cNvPicPr/>
          <p:nvPr/>
        </p:nvPicPr>
        <p:blipFill>
          <a:blip r:embed="rId1"/>
          <a:stretch/>
        </p:blipFill>
        <p:spPr>
          <a:xfrm>
            <a:off x="6999120" y="3699000"/>
            <a:ext cx="4129200" cy="2581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9175680" cy="15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>
                <a:solidFill>
                  <a:srgbClr val="00b050"/>
                </a:solidFill>
                <a:latin typeface="Trebuchet MS"/>
              </a:rPr>
              <a:t>Дети младшего возраста переносят в реальный мир свои представления из микромира игрушек.</a:t>
            </a:r>
            <a:endParaRPr b="0" lang="en-US" sz="29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1600" y="1887120"/>
            <a:ext cx="40813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ни не осознают, что реальные транспортные средства не могут в действительности останавливаться на месте так же мгновенно, как и игрушечны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2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ЕЛЕНА\Desktop\1280x720-SCv.jpg"/>
          <p:cNvPicPr/>
          <p:nvPr/>
        </p:nvPicPr>
        <p:blipFill>
          <a:blip r:embed="rId3"/>
          <a:srcRect l="42815" t="0" r="0" b="0"/>
          <a:stretch/>
        </p:blipFill>
        <p:spPr>
          <a:xfrm>
            <a:off x="5218200" y="1762200"/>
            <a:ext cx="28130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8760" y="431640"/>
            <a:ext cx="76834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ост ребенка – серьезное препятствие для обзора окружающей обстановки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4160" y="2081160"/>
            <a:ext cx="40986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-за стоящих транспортных средств ему не видно, что делается на дороге, в тоже время он сам не виден из-за машин водител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00b05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158_thumb.jpg"/>
          <p:cNvPicPr/>
          <p:nvPr/>
        </p:nvPicPr>
        <p:blipFill>
          <a:blip r:embed="rId2"/>
          <a:stretch/>
        </p:blipFill>
        <p:spPr>
          <a:xfrm>
            <a:off x="7459560" y="333360"/>
            <a:ext cx="3246480" cy="246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7" descr="C:\Users\ЕЛЕНА\Desktop\картинки\img-20130904173558-607.jpg"/>
          <p:cNvPicPr/>
          <p:nvPr/>
        </p:nvPicPr>
        <p:blipFill>
          <a:blip r:embed="rId3"/>
          <a:stretch/>
        </p:blipFill>
        <p:spPr>
          <a:xfrm>
            <a:off x="4702320" y="2919240"/>
            <a:ext cx="54864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5800" y="411120"/>
            <a:ext cx="611532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Оценка движущегося транспорта подвержена влиянию контрастов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3360" y="2154240"/>
            <a:ext cx="531972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Чем больше транспортное средство, тем быстрее дети  представляют его движение. При приближении большого грузовика, даже если он движется с небольшой скоростью, ребенок реже рискует пересекать проезжую часть, однако недооценивает опасность небольшой машины, движущейся с большой скорость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Users\ЕЛЕНА\Desktop\картинки\svetofor3-2kol.jpg"/>
          <p:cNvPicPr/>
          <p:nvPr/>
        </p:nvPicPr>
        <p:blipFill>
          <a:blip r:embed="rId2"/>
          <a:stretch/>
        </p:blipFill>
        <p:spPr>
          <a:xfrm>
            <a:off x="6389640" y="2849400"/>
            <a:ext cx="4576680" cy="304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Users\ЕЛЕНА\Desktop\картинки\IMG_9962.JPG"/>
          <p:cNvPicPr/>
          <p:nvPr/>
        </p:nvPicPr>
        <p:blipFill>
          <a:blip r:embed="rId3"/>
          <a:srcRect l="0" t="0" r="0" b="20247"/>
          <a:stretch/>
        </p:blipFill>
        <p:spPr>
          <a:xfrm>
            <a:off x="7893000" y="623880"/>
            <a:ext cx="3992760" cy="2122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Users\ЕЛЕНА\Desktop\картинки\0_98b9c_5208a372_XL.jpg"/>
          <p:cNvPicPr/>
          <p:nvPr/>
        </p:nvPicPr>
        <p:blipFill>
          <a:blip r:embed="rId4"/>
          <a:stretch/>
        </p:blipFill>
        <p:spPr>
          <a:xfrm>
            <a:off x="222120" y="217440"/>
            <a:ext cx="1832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33560" y="597960"/>
            <a:ext cx="7813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Поле зрения у детей на 15-20% уже, чем у взрослых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8160" y="2190600"/>
            <a:ext cx="45673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этому транспортные средства слева и справа остаются ребенком не замеченными. Он видит только то, что находится напроти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167468.jpg"/>
          <p:cNvPicPr/>
          <p:nvPr/>
        </p:nvPicPr>
        <p:blipFill>
          <a:blip r:embed="rId2"/>
          <a:stretch/>
        </p:blipFill>
        <p:spPr>
          <a:xfrm>
            <a:off x="4933800" y="1870200"/>
            <a:ext cx="5143680" cy="381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ебенок до 8 лет плохо распознает источники звуков.</a:t>
            </a:r>
            <a:r>
              <a:rPr b="0" lang="ru-RU" sz="3200" spc="-1" strike="noStrike">
                <a:solidFill>
                  <a:srgbClr val="00b05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58920" y="2327400"/>
            <a:ext cx="419292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ебенок слышит только те звуки, которые ему интерес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етям трудно определить, откуда доносится шум приближающегося транспортного средс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f_4a8f6cdfeee44.jpg"/>
          <p:cNvPicPr/>
          <p:nvPr/>
        </p:nvPicPr>
        <p:blipFill>
          <a:blip r:embed="rId2"/>
          <a:stretch/>
        </p:blipFill>
        <p:spPr>
          <a:xfrm>
            <a:off x="692280" y="2151000"/>
            <a:ext cx="4716360" cy="365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240840"/>
            <a:ext cx="8596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rebuchet MS"/>
              </a:rPr>
              <a:t>Реакция у ребенка, по сравнению со взрослыми, более замедленная.</a:t>
            </a:r>
            <a:endParaRPr b="0" lang="en-US" sz="32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6160" y="1650960"/>
            <a:ext cx="518652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Взрослому, чтобы отреагировать на опасность требуется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0,8 - 1 сек.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Trebuchet MS"/>
              </a:rPr>
              <a:t>Ребенку необходимо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3 - 4 сек.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rebuchet MS"/>
              </a:rPr>
              <a:t>Чтобы отличить движущийся автомобиль от стоящего, семилетнему ребенку требуется </a:t>
            </a:r>
            <a:r>
              <a:rPr b="1" lang="ru-RU" sz="2400" spc="-1" strike="noStrike" u="sng">
                <a:solidFill>
                  <a:srgbClr val="339933"/>
                </a:solidFill>
                <a:uFillTx/>
                <a:latin typeface="Trebuchet MS"/>
              </a:rPr>
              <a:t>до 4 секунд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Рисунок 1" descr="Описание: D:\Настя\NEW\РАБОТА 2015\РЕКВИЗИТЫ лого, образцы, временное\бланки\бланк.jpg"/>
          <p:cNvPicPr/>
          <p:nvPr/>
        </p:nvPicPr>
        <p:blipFill>
          <a:blip r:embed="rId1"/>
          <a:srcRect l="0" t="0" r="0" b="44595"/>
          <a:stretch/>
        </p:blipFill>
        <p:spPr>
          <a:xfrm>
            <a:off x="561960" y="6157800"/>
            <a:ext cx="5756400" cy="61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User\Рабочий стол\Оля\ГРАНТЫ И ВСЕ ПО НИМ\Грант Безопасность\Презентация, план и фото для «Безопасная дорога. Грамота для детей и родителей»\392977.jpg"/>
          <p:cNvPicPr/>
          <p:nvPr/>
        </p:nvPicPr>
        <p:blipFill>
          <a:blip r:embed="rId2"/>
          <a:stretch/>
        </p:blipFill>
        <p:spPr>
          <a:xfrm>
            <a:off x="5730840" y="1736640"/>
            <a:ext cx="4386240" cy="29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4" name="TextBox 5"/>
          <p:cNvSpPr/>
          <p:nvPr/>
        </p:nvSpPr>
        <p:spPr>
          <a:xfrm>
            <a:off x="533520" y="5286240"/>
            <a:ext cx="95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Arial"/>
              </a:rPr>
              <a:t>Такое промедление может оказаться опасным для жизн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4T06:48:27Z</dcterms:created>
  <dc:creator>Настя</dc:creator>
  <dc:description/>
  <dc:language>en-US</dc:language>
  <cp:lastModifiedBy>User</cp:lastModifiedBy>
  <dcterms:modified xsi:type="dcterms:W3CDTF">2016-12-12T11:42:08Z</dcterms:modified>
  <cp:revision>161</cp:revision>
  <dc:subject/>
  <dc:title>«Школа юного пешехода»</dc:title>
</cp:coreProperties>
</file>